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B7AA-6B1F-4F02-90D5-27419140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186C-05B0-4F6F-8C1E-8883968B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3CEE-54A9-4FCE-83A9-F12C2410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3B7B-BAC1-4BB9-BC02-01574F72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6877-E08F-4031-9CDA-FE217BFA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C63C-D01A-4D61-A9F4-ECC90793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9885-221C-4734-AC98-819AE43C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0459-256F-4033-AC96-C66246A8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942F-B7D8-47DC-AC7A-207E2FCF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00EE-23AA-4BE0-8607-17F78114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86B6-4252-404A-BA9E-D69279D7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4731-16AE-41B0-B9B0-758227E7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5418-0C0B-4315-94F3-9BD219467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holefoodsmarket.com/products/produce/images/grapes300w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www.biotechnologyonline.gov.au/images/contentpages/grains.jpg&amp;imgrefurl=http://www.biotechnologyonline.gov.au/popups/img_grains.html&amp;h=508&amp;w=760&amp;sz=31&amp;hl=en&amp;start=7&amp;sig2=uw2KO5nn1r4Mnhe8AS_OMQ&amp;um=1&amp;usg=__PW6QjtJyumaFjRw-3hehCk9JvqI=&amp;tbnid=VjwFtihyIIJaeM:&amp;tbnh=95&amp;tbnw=142&amp;ei=XzHiSKn1EIay9ASdrMCzDg&amp;prev=/images%3Fq%3Dgrains%26um%3D1%26hl%3Den%26rlz%3D1T4GGLG_en___US256%26sa%3DN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ancientRome_Full"/>
          <p:cNvPicPr/>
          <p:nvPr/>
        </p:nvPicPr>
        <p:blipFill>
          <a:blip r:embed="rId1"/>
          <a:stretch/>
        </p:blipFill>
        <p:spPr>
          <a:xfrm>
            <a:off x="0" y="-114480"/>
            <a:ext cx="9342360" cy="7240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ncient R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lla Rustica – mid-size farm and family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303200" y="1522440"/>
            <a:ext cx="675180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1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ifundia – large-scale, agricultural production 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139840" y="1069920"/>
            <a:ext cx="5031000" cy="59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5704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e was a busy metropolis whose inhabitants enjoyed the advantages and disadvantages of life in a densely populated urban capi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ealthiest families possesse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st power.  Senators served for lif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members of these group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families were calle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PATRICI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ther class of Romans, the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PLEBEIA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oners) included small farmers, artisans, barbers, booksellers, butchers, cobblers, fishermen, food vendors, furniture sellers, perfume makers, tavern owners,  money lenders, shopkeeper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plebeian"/>
          <p:cNvPicPr/>
          <p:nvPr/>
        </p:nvPicPr>
        <p:blipFill>
          <a:blip r:embed="rId1"/>
          <a:srcRect l="0" t="7791" r="7818" b="0"/>
          <a:stretch/>
        </p:blipFill>
        <p:spPr>
          <a:xfrm>
            <a:off x="5245200" y="4890960"/>
            <a:ext cx="3573360" cy="183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patrician"/>
          <p:cNvPicPr/>
          <p:nvPr/>
        </p:nvPicPr>
        <p:blipFill>
          <a:blip r:embed="rId2"/>
          <a:srcRect l="6379" t="6398" r="0" b="0"/>
          <a:stretch/>
        </p:blipFill>
        <p:spPr>
          <a:xfrm>
            <a:off x="5396040" y="1422360"/>
            <a:ext cx="34812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883800"/>
            <a:ext cx="484992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the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ATRICI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rolled the government, they found themselves unable to exist without the plebeia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LEBEI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ed the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F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upplied the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AB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kept the Roman economy g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lso supplied the soldiers for the Roman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ILIT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specially important since Rome was in continual military conflict during the age of the Republic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statue05"/>
          <p:cNvPicPr/>
          <p:nvPr/>
        </p:nvPicPr>
        <p:blipFill>
          <a:blip r:embed="rId1"/>
          <a:stretch/>
        </p:blipFill>
        <p:spPr>
          <a:xfrm>
            <a:off x="5573880" y="1073160"/>
            <a:ext cx="326232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95120" y="1514160"/>
            <a:ext cx="367992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ient Rome had an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AGRICULTURAL, SLAVE-BASED EC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se main purpose was to feed the vast number of citizens and legionaries who populated the Mediterranean reg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3857760" y="841320"/>
            <a:ext cx="526572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33440" y="736560"/>
            <a:ext cx="507672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talian economy depended on slave labor. Slaves served in many capacities. One slave trained in medicine was worth the price of 50 agricultural slav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romeslaves1"/>
          <p:cNvPicPr/>
          <p:nvPr/>
        </p:nvPicPr>
        <p:blipFill>
          <a:blip r:embed="rId1"/>
          <a:stretch/>
        </p:blipFill>
        <p:spPr>
          <a:xfrm>
            <a:off x="5464080" y="819000"/>
            <a:ext cx="339732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12520" y="2298240"/>
            <a:ext cx="7645320" cy="29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farming methods learned from the Greeks and Carthaginians in North Africa led to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LARGE-SCALE PRODU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olive oil, wine, sheep, and cattle. This trend was especially profitable because an abundance of cheap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SLA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 These large slave plantations, called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LATIFUND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825480" y="282600"/>
            <a:ext cx="76723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17680" y="733320"/>
            <a:ext cx="4944960" cy="569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aple crops of Roman farmers in Italy were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HEAT, BARLEY, OLIVES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GRA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OLIVE O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I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e among the most important products in the ancient civilized world and led Italy's exports.  Farmers also grew onions, celery, thyme, cabbage, basil, beets, radishes, and pars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rmers bred animals like sheep, goats, chickens, and pi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ans imported other goods like cinnamon, pepper, salt, corn, silk, dye, cotton, papyrus, tin, ivory, gold, silver, timber, and mar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grapes300w">
            <a:hlinkClick r:id="rId1"/>
          </p:cNvPr>
          <p:cNvPicPr/>
          <p:nvPr/>
        </p:nvPicPr>
        <p:blipFill>
          <a:blip r:embed="rId2"/>
          <a:srcRect l="0" t="-324" r="0" b="0"/>
          <a:stretch/>
        </p:blipFill>
        <p:spPr>
          <a:xfrm>
            <a:off x="6272280" y="4168800"/>
            <a:ext cx="2535120" cy="2303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grain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62560" y="587520"/>
            <a:ext cx="2500560" cy="1672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olives"/>
          <p:cNvPicPr/>
          <p:nvPr/>
        </p:nvPicPr>
        <p:blipFill>
          <a:blip r:embed="rId5"/>
          <a:stretch/>
        </p:blipFill>
        <p:spPr>
          <a:xfrm>
            <a:off x="6249960" y="2363760"/>
            <a:ext cx="252252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80600" y="782640"/>
            <a:ext cx="407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rmers could give crops to the government instead of paying monetary tax. This system allowed politicians to gain popularity with the masses through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FREE GRAIN DIS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grains-762448"/>
          <p:cNvPicPr/>
          <p:nvPr/>
        </p:nvPicPr>
        <p:blipFill>
          <a:blip r:embed="rId1"/>
          <a:stretch/>
        </p:blipFill>
        <p:spPr>
          <a:xfrm>
            <a:off x="4654440" y="828720"/>
            <a:ext cx="4238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482400"/>
            <a:ext cx="4038480" cy="60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e most pressing problems was the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DISAPPEARANCE OF THE SMALL LANDOWN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Burdened by frequent military service, his farm buildings being destroyed by war, and being unable to compete with the cheap grain imported from  new Roman colonies, the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SMALL FARM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ually had a second job.  Horace’s father was a farmer as well as an auctioneer’s ag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enna"/>
          <p:cNvPicPr/>
          <p:nvPr/>
        </p:nvPicPr>
        <p:blipFill>
          <a:blip r:embed="rId1"/>
          <a:stretch/>
        </p:blipFill>
        <p:spPr>
          <a:xfrm>
            <a:off x="4537080" y="585720"/>
            <a:ext cx="44672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21:59:20Z</dcterms:created>
  <dc:creator>Edrene S. McKay</dc:creator>
  <dc:description/>
  <dc:language>en-US</dc:language>
  <cp:lastModifiedBy>ebony</cp:lastModifiedBy>
  <dcterms:modified xsi:type="dcterms:W3CDTF">2013-11-05T17:36:57Z</dcterms:modified>
  <cp:revision>25</cp:revision>
  <dc:subject/>
  <dc:title>A Comparison of Ancient Civilizations</dc:title>
</cp:coreProperties>
</file>